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media3.wma" ContentType="application/vnd.sun.star.media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160000" cy="7620000"/>
  <p:notesSz cx="7620000" cy="10160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B4EB3C-FC24-4019-A1F7-DBF5977A1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70080" y="762120"/>
            <a:ext cx="5079600" cy="380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4826160"/>
            <a:ext cx="6095520" cy="45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Which God do you chos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Fear or Lov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70080" y="762120"/>
            <a:ext cx="5079600" cy="380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62120" y="4826160"/>
            <a:ext cx="6095520" cy="45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Christ own words in the agony in the garden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You are never forsaken ~ I have carved you on the palms of my hands...I would not leave you orphaned ...I would never forget my own...could a mother forget her baby...or a woman the child within her womb...though even if these forget ...I would never forget my own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You are precious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70080" y="762120"/>
            <a:ext cx="5079600" cy="3809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62120" y="4826160"/>
            <a:ext cx="6095520" cy="45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Which God do you chos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Fear or Lov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70080" y="762120"/>
            <a:ext cx="5079600" cy="3809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62120" y="4826160"/>
            <a:ext cx="6095520" cy="45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Which God do you chos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Fear or Lov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4E9-337D-4490-83F6-9A64D091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46944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8CA-AA7B-4F00-A2FB-65919347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840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2D8-FD05-4C38-954D-3B0F1767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376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6260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376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6260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6A8-1628-45BD-A7EC-64B730A2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955008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F46-6FD6-49BD-9608-B810D6A1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9840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46944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840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376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260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376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260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42D-AE92-4C7E-8F0E-A49A5CF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D34-EF18-42E9-AC03-6029E745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B82-6AA3-4263-BE30-C42B1A29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955008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438-D932-4F92-9223-AD9FDDE5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3D0-7413-497E-8C21-5B33B9F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840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9A7-7CC5-4D05-A6FF-FAB5E3B3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6FE-3194-4F71-ADC3-92476772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0440" y="-7920"/>
            <a:ext cx="10180800" cy="11566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68280" y="-7920"/>
            <a:ext cx="5291280" cy="70884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32400" y="-18360"/>
            <a:ext cx="10219680" cy="1207080"/>
            <a:chOff x="-32400" y="-18360"/>
            <a:chExt cx="10219680" cy="120708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20880" y="224280"/>
              <a:ext cx="10180800" cy="7210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5840" y="306360"/>
              <a:ext cx="10194840" cy="5889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2560" y="1523880"/>
            <a:ext cx="8723520" cy="2031480"/>
          </a:xfrm>
          <a:prstGeom prst="rect">
            <a:avLst/>
          </a:prstGeom>
          <a:noFill/>
          <a:ln w="0">
            <a:noFill/>
          </a:ln>
        </p:spPr>
        <p:txBody>
          <a:bodyPr lIns="0" rIns="201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62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507960" y="7062480"/>
            <a:ext cx="2370240" cy="4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d1eaed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d1eaed"/>
                </a:solidFill>
                <a:latin typeface="Arial"/>
                <a:ea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963160" y="7062480"/>
            <a:ext cx="3724920" cy="4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805240" y="7062480"/>
            <a:ext cx="846360" cy="4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d1eaed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99B013-DD8B-4699-9BD6-6054900246A0}" type="slidenum">
              <a:rPr b="0" lang="en-US" sz="1300" spc="-1" strike="noStrike">
                <a:solidFill>
                  <a:srgbClr val="d1eaed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3280" cy="44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10440" y="-7920"/>
            <a:ext cx="10180800" cy="11566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868280" y="-7920"/>
            <a:ext cx="5291280" cy="70884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0" y="-18360"/>
            <a:ext cx="10219680" cy="1207080"/>
            <a:chOff x="-32400" y="-18360"/>
            <a:chExt cx="10219680" cy="120708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20880" y="224280"/>
              <a:ext cx="10180800" cy="7210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5840" y="306360"/>
              <a:ext cx="10194840" cy="5889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../media/media3.wma"/><Relationship Id="rId3" Type="http://schemas.microsoft.com/office/2007/relationships/media" Target="../media/media3.wma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600" y="1577880"/>
            <a:ext cx="8395200" cy="1527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Angel Affirmations to </a:t>
            </a:r>
            <a:r>
              <a:rPr b="1" lang="en-US" sz="6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N</a:t>
            </a: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ourish </a:t>
            </a:r>
            <a:r>
              <a:rPr b="1" lang="en-US" sz="6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Y</a:t>
            </a: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our </a:t>
            </a:r>
            <a:r>
              <a:rPr b="1" lang="en-US" sz="6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B</a:t>
            </a: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eautiful </a:t>
            </a:r>
            <a:r>
              <a:rPr b="1" lang="en-US" sz="6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S</a:t>
            </a: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o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30320" y="4978440"/>
            <a:ext cx="656892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i="1" lang="en-US" sz="2900" spc="-1" strike="noStrike">
                <a:solidFill>
                  <a:srgbClr val="ff00ff"/>
                </a:solidFill>
                <a:latin typeface="Monotype Corsiva"/>
                <a:ea typeface="Arial"/>
              </a:rPr>
              <a:t>You are beautiful there is no blemish in you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00ff"/>
                </a:solidFill>
                <a:latin typeface="Monotype Corsiva"/>
                <a:ea typeface="Arial"/>
              </a:rPr>
              <a:t>( Song of Son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hape 22"/>
          <p:cNvSpPr/>
          <p:nvPr/>
        </p:nvSpPr>
        <p:spPr>
          <a:xfrm>
            <a:off x="659520" y="6474240"/>
            <a:ext cx="8449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9900ff"/>
                </a:solidFill>
                <a:latin typeface="Monotype Corsiva"/>
                <a:ea typeface="times new roman"/>
              </a:rPr>
              <a:t>Mary McCallion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9900ff"/>
                </a:solidFill>
                <a:latin typeface="Monotype Corsiva"/>
                <a:ea typeface="times new roman"/>
              </a:rPr>
              <a:t>Dempsey      </a:t>
            </a:r>
            <a:r>
              <a:rPr b="0" lang="en-US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                                                                   086173396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        </a:t>
            </a:r>
            <a:r>
              <a:rPr b="0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ww.angelwhispers.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embed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567320" y="4313880"/>
            <a:ext cx="63432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" p14:dur="1400">
        <p14:ripple/>
      </p:transition>
    </mc:Choice>
    <mc:Fallback>
      <p:transition spd="slow" advTm="100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801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8202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203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God's Love Notes To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626400" cy="5562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Know that you are loved beyond imagining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Love you ~I accept not just the parts of you that you accept of yourself ~ but all of you especially those parts of you that you dislike &amp; reject. 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Reject is not a concept in Heaven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Love is all there i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ww.angelwhispers.ie</a:t>
            </a:r>
            <a:r>
              <a:rPr b="0" lang="en-US" sz="2700" spc="-1" strike="noStrike">
                <a:solidFill>
                  <a:srgbClr val="674ea7"/>
                </a:solidFill>
                <a:latin typeface="times new roman"/>
                <a:ea typeface="times new roman"/>
              </a:rPr>
              <a:t>~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9160" y="299880"/>
            <a:ext cx="9621360" cy="122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Do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Y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ou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K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now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H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ow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M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uch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Y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ou are Loved.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3600" y="2945880"/>
            <a:ext cx="9483840" cy="417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i="1" lang="en-IE" sz="3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When you are with me self rejection is impossible Stay by my side at all times and I will shelter you from your own self harm</a:t>
            </a:r>
            <a:r>
              <a:rPr b="0" i="1" lang="en-US" sz="3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i="1" lang="en-US" sz="3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Listen for my whispers 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You are so precious in my ey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times new roman"/>
                <a:ea typeface="times new roman"/>
              </a:rPr>
              <a:t>                             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www.angelwhispers,ie                                                                                                                          Mary 086173396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9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d's Love Notes to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9160" y="1136160"/>
            <a:ext cx="9621360" cy="6056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Lovingly created for you b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Angelwhisp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Soul Guidance and Heal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Retreats By the Se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&amp;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Online Retrea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                   </a:t>
            </a:r>
            <a:r>
              <a:rPr b="0" lang="en-US" sz="36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Contact Mary  </a:t>
            </a:r>
            <a:r>
              <a:rPr b="0" lang="en-US" sz="24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00353</a:t>
            </a:r>
            <a:r>
              <a:rPr b="0" lang="en-US" sz="36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 (0)86173396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mary@angelwhispers.i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www.angelwhispers.i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ffirmations to Create Abund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200" y="1473480"/>
            <a:ext cx="9612360" cy="591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safe and I am well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My life is plugged into the abundance of Heaven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create abundance where ever I go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Everyone &amp; everything in my life is plugged into the Abundance of Heaven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Struggle lack &amp; scarcity are all illusions created by small fear mind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ww.angelwhispers.i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Live ou</a:t>
            </a:r>
            <a:r>
              <a:rPr b="0" i="1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t</a:t>
            </a:r>
            <a:r>
              <a:rPr b="0" i="1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 of </a:t>
            </a:r>
            <a:r>
              <a:rPr b="0" i="1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Y</a:t>
            </a:r>
            <a:r>
              <a:rPr b="0" i="1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our God </a:t>
            </a:r>
            <a:r>
              <a:rPr b="0" i="1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H</a:t>
            </a:r>
            <a:r>
              <a:rPr b="0" i="1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eart &amp; Mi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8440" y="1822680"/>
            <a:ext cx="9623520" cy="5559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now live out of the Big Heart &amp; Mind of Abundanc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have the Angel of Abundance &amp; Prosperity by side guiding me at all time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completely Trust my Guiding Angel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Arial"/>
                <a:ea typeface="Arial"/>
              </a:rPr>
              <a:t>www.angelwhispers.i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Opportun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9160" y="1200960"/>
            <a:ext cx="9621360" cy="622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times new roman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</a:t>
            </a: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am surrounded by love &amp; wealth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see opportunities all around me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seek guidance to choose wisely for my greater good and for the greater good of all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My heart is open to receiving the generosity of my Divine creator who created me out of love for lov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Everything conspires to create opportunities for me to thrive and excel in every thing that I chose to do and creat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a magical creator everything that I do enhances my life and the life of those around m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www.angelwhispers,ie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                       Mary 086173396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9160" y="1190880"/>
            <a:ext cx="9621360" cy="6220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love my lif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jump out of bed each day with the excitement of new beginning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know and believe that I am cared for as life continues to breathe me and nourish me in mind body &amp; soul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live &amp; breathe peace, love and harmony into every cell &amp; fibre of my being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joy. I live &amp; breathe the energy of Joy till I become the energy of Joy itself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proctected at all times by my angels and God's lov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8200" y="1190880"/>
            <a:ext cx="8620560" cy="6220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live in the energy of Love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Love is the essence of my life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radiate love to those I care for and to all on the planet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surprised by the  wealth of talents that I discover in myself each new day that I liv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674ea7"/>
                </a:solidFill>
                <a:latin typeface="times new roman"/>
                <a:ea typeface="times new roman"/>
              </a:rPr>
              <a:t>www.angelwhispers.ie   Mary 086173396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ve notes to G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34680"/>
            <a:ext cx="9626400" cy="5178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Brilliant I get to live another magical day show me how to live it to my best creative ability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Thank you for my life and for your continuous love guidance &amp; support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God you are the wind beneath my wing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www.angelwhispers,ie                                                                                                                                                     Mary 086173396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d's love notes to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9160" y="1814400"/>
            <a:ext cx="9621360" cy="4569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But sometimes I do wonder ~ do you really understand just how painful life can be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Why have you deserted me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Shape 72"/>
          <p:cNvSpPr/>
          <p:nvPr/>
        </p:nvSpPr>
        <p:spPr>
          <a:xfrm>
            <a:off x="1561320" y="6616440"/>
            <a:ext cx="7661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74ea7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674ea7"/>
                </a:solidFill>
                <a:latin typeface="Arial"/>
                <a:ea typeface="Arial"/>
              </a:rPr>
              <a:t>www.angelwhispers,ie                                                                                                                   Mary 08617339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d's love notes to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5600" y="1289880"/>
            <a:ext cx="9621360" cy="599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Your pain is my pa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could never forsake yo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have carved you in the Palms of my h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would not leave you orphaned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There is no blemish in yo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created you I loved you into lif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You are my love you are my gift to the wor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7765</TotalTime>
  <Application>LibreOffice/7.4.7.2$Linux_X86_64 LibreOffice_project/40$Build-2</Application>
  <AppVersion>15.0000</AppVersion>
  <Words>387</Words>
  <Paragraphs>2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y</dc:creator>
  <dc:description/>
  <dc:language>en-US</dc:language>
  <cp:lastModifiedBy>Mary</cp:lastModifiedBy>
  <dcterms:modified xsi:type="dcterms:W3CDTF">2014-04-22T01:40:08Z</dcterms:modified>
  <cp:revision>11</cp:revision>
  <dc:subject/>
  <dc:title>Angel Affirmations to Nourish Your Beautiful Sou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2</vt:r8>
  </property>
  <property fmtid="{D5CDD505-2E9C-101B-9397-08002B2CF9AE}" pid="4" name="PresentationFormat">
    <vt:lpwstr>Custom</vt:lpwstr>
  </property>
  <property fmtid="{D5CDD505-2E9C-101B-9397-08002B2CF9AE}" pid="5" name="Slides">
    <vt:r8>12</vt:r8>
  </property>
</Properties>
</file>